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E381-4BFB-4B9E-B3FB-762774BBA7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11B-BDC6-4C04-8551-B9F8F80818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1557-5C31-4120-9263-E4ABAA62AB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C9E-2D6C-405D-B550-9FEBBAF2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AF9-D0B6-474B-8E83-3E5DFEE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20D-D7B2-49E5-9A62-DFC44B34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C36-BB01-4637-9AA7-BCB9041A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33D2-DAAA-4048-9821-5BEDAE4C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E23-BC48-49F7-91CE-4113B7C5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B9A-58A2-4D5A-814F-87AD05A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B88-7192-4495-B591-389C02A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2EA-3743-49BC-A2E2-3BD2D7F8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DC0-AEE9-4724-A7C8-E96FE6D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D388-A221-43A3-B703-CB33413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F3E-2BDD-433A-AB79-14879DFA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F05C-A100-461F-9408-EF61C6B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FA00-5797-4F3D-B9A2-7FF06BB9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5550-D7F6-4427-A840-0471AF42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0B4-DA5C-4CAB-B1F8-23DA52C3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0F5C-CAAA-464B-8502-5251626B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11E9-CEA0-4494-AF04-F7879E2B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E66F-6BF0-4F1B-B7FE-CD11BA1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3210-0FAD-45A3-96FA-1F7DCDEB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7372-93FE-4005-89CC-379C527A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B9E0-B045-4167-8E79-6F8DE928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13F-224A-4315-84F4-14458A91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8A31-B77F-4961-B7F2-5DB1C81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E1E6-EF71-435B-9227-4730087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094E-25FF-4AE6-A23E-961FAE2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8DA4-7FBE-4E20-B674-6E53F75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AF67-B04B-43DC-BA2B-0C40A6B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5E24-B898-4B95-AEF0-7E064A44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96FE-E052-4228-9D77-59A29F7C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49A6-A465-44E9-B899-320370E9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9619-B0F4-45C4-9A19-27FB761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2860-BD81-4BF0-A93F-A59344A9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D2D-4B7D-4298-A5F7-662C5ED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EF69-8EAE-4BBB-B80F-0144C6F2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39A76-EC0B-4104-BA2E-3EBD5E2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1937-390E-4E72-866A-6B9DAAA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35B7-8B3F-422F-A9D0-10DA78E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C2BA-81AA-430E-B25C-0F35013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D5C2-0F03-4767-943C-DB328F8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DFA3-3825-459A-A7EA-6440099B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2EED-ACD6-429E-81D1-09494621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0F21-2EFE-4FC4-9B93-C99C04CE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2B1F-60BE-4D40-83B0-4795D501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E7-D652-4D78-82FA-61B32B55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492C-05CE-4D2E-86CD-94A8EC07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5C48-878A-48C0-A848-63E0C52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52B3-A97F-42C5-9AAB-8FE4575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598F-8F58-432D-B9CE-558FA9D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3ED12-2259-45DD-B692-067812C2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FF68-B0A8-4161-BE2C-E1EF338E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038A9-D454-43D7-BD68-1F377D9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0227-5ABC-4C63-8DF0-D56BE74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9E4E7-41B9-46D0-9936-39AF8CF6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F5B00-D025-45EA-90CC-5170D0F2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551-9DEE-4468-A6D0-F0F2A619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EBA8-E5DE-400C-86D8-A253FF17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8729-9E6C-4AA3-9B22-5E03F088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D4C3-FB3E-43E5-8C9C-2D78F013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9845A-1F03-4A56-9E61-F083B82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8491-DAEE-44FF-9556-D9335F3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8C012-52CD-4D47-B535-1104F5FE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1A36-3B05-4F42-A4A4-6129F87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598C-1FAF-499D-97F2-7272714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C502D-4BE3-43D5-9033-5ACC832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2ACB-0F71-4415-97AE-5AE3A3C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BCE-EAC6-4B6A-8642-BE81323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4E83-D4C6-4CC9-B003-AB23BCF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670F-7B9C-4E3F-B1C8-E5D265D7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D24C-28C0-4B7B-B8DA-E975246A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675-D391-47D8-807E-FEC77CB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E4A-FE82-4A59-9F6F-7CD3AD0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E08-F6CC-4FAE-AFD6-B7DE8A968C9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673-2C6A-4CAC-A231-064D48B3C22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2E92-4139-4378-A6FD-FB9DB045B7D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442-042D-41E6-9272-983034835601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2BF-97D7-4C73-B6E2-3CE7E216864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23E7-12E1-4B00-A3E7-850E0BEA87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02D-29C2-45FF-B762-0BDF2FD0CE1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CF1-90D5-4231-BF80-C3239C57E7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811F-5744-4762-885C-39219A7ED87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D13-D592-4E08-8019-EBCA5E2B6C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268-DDF8-49E2-B855-D30CC7A5EA9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1D5-2FF6-4758-A7C8-14B004410C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53880" y="1413000"/>
            <a:ext cx="107823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79440" y="1484280"/>
            <a:ext cx="107568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1075356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1055520" y="1527120"/>
            <a:ext cx="1008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1055520" y="1557360"/>
            <a:ext cx="1008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055520" y="1484280"/>
            <a:ext cx="100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9-21T20:41:11Z</dcterms:modified>
  <cp:revision>433</cp:revision>
  <dc:subject/>
  <dc:title>Demografia</dc:title>
</cp:coreProperties>
</file>